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type.wav" ContentType="audio/x-wav"/>
  <Override PartName="/ppt/media/wind.wav" ContentType="audio/x-wav"/>
  <Override PartName="/ppt/media/cashreg.wav" ContentType="audio/x-wav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DD7E-94EA-47CC-BFBB-6EC5944A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ABBD-0533-46C4-81C6-770FAC0A7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15CB-3321-46AC-8E5F-177FE0F76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E4DE2-2755-406F-AAD5-3837774C0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A28E-51C4-4A16-A9A2-42E08748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D50EB-04A2-40C7-968F-21AA5DF46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C7A8-DAB1-4153-AD88-1B93833CF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C75E-8CAF-4A7B-AAE8-BCF5F3B1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A75E5-D5CA-4E89-A7B2-96BE46A5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5DDD4-821D-465A-B6F1-AA0B0759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8FCF-779E-4B4C-8EA4-5CF3305CF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C168-BDC1-4876-85D3-FD00A36E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9602-7FD5-4246-857F-5BF17A47C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4BA2B-3C5A-45BE-A1C0-3F345AC7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9A50-FD21-465E-A89C-25185F351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B3608-0318-455F-B65A-53063D875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FF508-6757-4EF4-901A-4EEF74A2B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B2DB-821E-400A-92B7-FB9FAB26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D9C0-8B2A-4AFD-A09A-2E1D36C6A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CC8-51C5-41D0-99F9-AEC3D5BAF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64915-EF30-4E3B-AD27-E1A58F21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BE680-7075-4C0A-8B2B-1519643F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E7E8-9990-4500-A6A6-79B0B71B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DF54-9627-45A1-9953-5DDBF009D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2C6EC-BBF1-4E81-B26F-1D333BD5FD4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756F-AF74-40A0-8B51-1BBEFA1E9EE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wind.wav"/><Relationship Id="rId3" Type="http://schemas.openxmlformats.org/officeDocument/2006/relationships/audio" Target="../media/cashreg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audio" Target="../media/type.wav"/><Relationship Id="rId13" Type="http://schemas.openxmlformats.org/officeDocument/2006/relationships/audio" Target="../media/type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type.wav"/><Relationship Id="rId11" Type="http://schemas.openxmlformats.org/officeDocument/2006/relationships/audio" Target="../media/type.wav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66"/>
                </a:solidFill>
                <a:latin typeface="Arial"/>
              </a:rPr>
              <a:t>MORFOLOGÍA</a:t>
            </a:r>
            <a:endParaRPr b="1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ELEMENTOS DEL SUSTANTIVO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19640" y="6237360"/>
            <a:ext cx="3456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r: Jaime Morente Heredia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6919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1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ANÁLISIS MORFOLÓGICO DEL “SUSTANTIVO”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MENTOS POSIBLES (parte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2276640"/>
            <a:ext cx="8229600" cy="15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47640" y="2708280"/>
            <a:ext cx="396108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060720" y="2852640"/>
            <a:ext cx="475128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2924280"/>
            <a:ext cx="2664000" cy="863640"/>
          </a:xfrm>
          <a:prstGeom prst="upArrowCallout">
            <a:avLst>
              <a:gd name="adj1" fmla="val 77122"/>
              <a:gd name="adj2" fmla="val 77115"/>
              <a:gd name="adj3" fmla="val 16667"/>
              <a:gd name="adj4" fmla="val 66660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M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356000" y="2924280"/>
            <a:ext cx="3384720" cy="863640"/>
          </a:xfrm>
          <a:prstGeom prst="upArrowCallout">
            <a:avLst>
              <a:gd name="adj1" fmla="val 97987"/>
              <a:gd name="adj2" fmla="val 97978"/>
              <a:gd name="adj3" fmla="val 16667"/>
              <a:gd name="adj4" fmla="val 66660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06560" y="3860640"/>
            <a:ext cx="7886520" cy="2737080"/>
          </a:xfrm>
          <a:prstGeom prst="rect">
            <a:avLst/>
          </a:prstGeom>
          <a:noFill/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UN EJEMPLO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[    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L      I      B      R      O      S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   ]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[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LEXEM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VOC.TEMÁTIC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– </a:t>
            </a:r>
            <a:r>
              <a:rPr b="1" lang="en-US" sz="2400" spc="-1" strike="noStrike">
                <a:solidFill>
                  <a:srgbClr val="339966"/>
                </a:solidFill>
                <a:latin typeface="Arial"/>
              </a:rPr>
              <a:t>DESINENCIA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411280" y="4941720"/>
            <a:ext cx="28814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80000" y="4941720"/>
            <a:ext cx="792360" cy="0"/>
          </a:xfrm>
          <a:prstGeom prst="line">
            <a:avLst/>
          </a:prstGeom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516720" y="4941720"/>
            <a:ext cx="720720" cy="0"/>
          </a:xfrm>
          <a:prstGeom prst="line">
            <a:avLst/>
          </a:prstGeom>
          <a:ln w="7632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627280" y="4941720"/>
            <a:ext cx="720720" cy="432000"/>
          </a:xfrm>
          <a:prstGeom prst="line">
            <a:avLst/>
          </a:prstGeom>
          <a:ln w="63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5364000" y="4941720"/>
            <a:ext cx="648000" cy="432000"/>
          </a:xfrm>
          <a:prstGeom prst="line">
            <a:avLst/>
          </a:prstGeom>
          <a:ln w="763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05440" y="4941720"/>
            <a:ext cx="71640" cy="432000"/>
          </a:xfrm>
          <a:prstGeom prst="line">
            <a:avLst/>
          </a:prstGeom>
          <a:ln w="7632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5877000"/>
            <a:ext cx="3600360" cy="647640"/>
          </a:xfrm>
          <a:prstGeom prst="upArrowCallout">
            <a:avLst>
              <a:gd name="adj1" fmla="val 25997"/>
              <a:gd name="adj2" fmla="val 98109"/>
              <a:gd name="adj3" fmla="val 29657"/>
              <a:gd name="adj4" fmla="val 103436"/>
            </a:avLst>
          </a:prstGeom>
          <a:solidFill>
            <a:srgbClr val="ff66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MA: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IBRO-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003640" y="5877000"/>
            <a:ext cx="3457800" cy="647640"/>
          </a:xfrm>
          <a:prstGeom prst="upArrowCallout">
            <a:avLst>
              <a:gd name="adj1" fmla="val 18639"/>
              <a:gd name="adj2" fmla="val 87501"/>
              <a:gd name="adj3" fmla="val 35051"/>
              <a:gd name="adj4" fmla="val 103436"/>
            </a:avLst>
          </a:prstGeom>
          <a:solidFill>
            <a:srgbClr val="cc99ff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TERMINACIÓN: 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-O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5734080"/>
            <a:ext cx="3960720" cy="0"/>
          </a:xfrm>
          <a:prstGeom prst="line">
            <a:avLst/>
          </a:prstGeom>
          <a:ln w="63360">
            <a:solidFill>
              <a:srgbClr val="ff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48000" y="5805360"/>
            <a:ext cx="4392720" cy="0"/>
          </a:xfrm>
          <a:prstGeom prst="line">
            <a:avLst/>
          </a:prstGeom>
          <a:ln w="63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794160" y="912600"/>
            <a:ext cx="6338160" cy="44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LEXIÓN NOMINAL: 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 “TEMA”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LEXEM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3068640"/>
            <a:ext cx="23050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219640" y="3645000"/>
            <a:ext cx="72072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2852640"/>
            <a:ext cx="259272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IGNIFICADO léxic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3500280"/>
            <a:ext cx="259272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08720" y="3933720"/>
            <a:ext cx="0" cy="3589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65440" y="4300560"/>
            <a:ext cx="100620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471168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O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763640" y="514368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  -/-I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763640" y="5576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63640" y="60087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3640" y="43052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PRIM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42200" y="471636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SEGUND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442200" y="514800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TERCE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442200" y="5581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CUAR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442200" y="601344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QUIN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771640" y="4508640"/>
            <a:ext cx="3598920" cy="144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4941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1640" y="5373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771640" y="5805360"/>
            <a:ext cx="3597480" cy="180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71640" y="6165720"/>
            <a:ext cx="359748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08000" y="3860640"/>
            <a:ext cx="338472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95640" y="3860640"/>
            <a:ext cx="0" cy="4320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49960" y="6491160"/>
            <a:ext cx="703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66"/>
                </a:solidFill>
                <a:latin typeface="Arial"/>
              </a:rPr>
              <a:t>* La declinación 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“TERCERA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 puede ser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consonántica 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o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  <a:ea typeface="Arial"/>
              </a:rPr>
              <a:t>vocálica</a:t>
            </a: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1027080"/>
            <a:ext cx="720720" cy="720720"/>
          </a:xfrm>
          <a:custGeom>
            <a:avLst/>
            <a:gdLst>
              <a:gd name="textAreaLeft" fmla="*/ 96480 w 720720"/>
              <a:gd name="textAreaRight" fmla="*/ 624240 w 720720"/>
              <a:gd name="textAreaTop" fmla="*/ 126000 h 720720"/>
              <a:gd name="textAreaBottom" fmla="*/ 522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71640" y="13874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9074"/>
                </a:solidFill>
                <a:latin typeface="Verdana"/>
              </a:rPr>
              <a:t>LAS 5 “DECLINACION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1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960"/>
                            </p:stCondLst>
                            <p:childTnLst>
                              <p:par>
                                <p:cTn id="12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46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500"/>
                                        <p:tgtEl>
                                          <p:spTgt spid="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1000"/>
                            </p:stCondLst>
                            <p:childTnLst>
                              <p:par>
                                <p:cTn id="2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7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250" autoRev="1" fill="hold"/>
                                        <p:tgtEl>
                                          <p:spTgt spid="1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8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1" dur="250" autoRev="1" fill="hold"/>
                                        <p:tgtEl>
                                          <p:spTgt spid="1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5280"/>
                            </p:stCondLst>
                            <p:childTnLst>
                              <p:par>
                                <p:cTn id="288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8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0" dur="250" autoRev="1" fill="hold"/>
                                        <p:tgtEl>
                                          <p:spTgt spid="13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animClr clrSpc="rgb">
                                <p:cBhvr>
                                  <p:cTn id="2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798840" y="798480"/>
            <a:ext cx="8057520" cy="50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LEXIÓN NOMINAL: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“TERMINACIÓN” (I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20500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ELEMEN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1º.- </a:t>
            </a:r>
            <a:r>
              <a:rPr b="0" lang="en-US" sz="2800" spc="-1" strike="noStrike" u="sng">
                <a:solidFill>
                  <a:srgbClr val="003366"/>
                </a:solidFill>
                <a:uFillTx/>
                <a:latin typeface="Arial"/>
                <a:hlinkClick r:id="rId1" action="ppaction://hlinksldjump"/>
              </a:rPr>
              <a:t>VOCAL TEMÁT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2º.- 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DESINE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75280" y="2922480"/>
            <a:ext cx="431640" cy="180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0360" y="3429000"/>
            <a:ext cx="431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80000" y="2565360"/>
            <a:ext cx="2592360" cy="368280"/>
          </a:xfrm>
          <a:prstGeom prst="rect">
            <a:avLst/>
          </a:prstGeom>
          <a:noFill/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5080" y="3138480"/>
            <a:ext cx="1871640" cy="368280"/>
          </a:xfrm>
          <a:prstGeom prst="rect">
            <a:avLst/>
          </a:prstGeom>
          <a:noFill/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ASO  Y  Nº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45080" y="3645000"/>
            <a:ext cx="0" cy="141120"/>
          </a:xfrm>
          <a:prstGeom prst="line">
            <a:avLst/>
          </a:prstGeom>
          <a:ln w="76320">
            <a:solidFill>
              <a:srgbClr val="00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633760" y="3808440"/>
            <a:ext cx="100620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631960" y="42195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631960" y="46515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IS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631960" y="508464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B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631960" y="551664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5240" y="3813120"/>
            <a:ext cx="194148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US./SING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3440" y="4224240"/>
            <a:ext cx="194184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CUS./P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3440" y="4655880"/>
            <a:ext cx="194184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AT.-AB./P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3440" y="5089320"/>
            <a:ext cx="194184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AT.-AB.-P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573440" y="5521320"/>
            <a:ext cx="194184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EN./P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639960" y="4016520"/>
            <a:ext cx="86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39960" y="4449600"/>
            <a:ext cx="86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639960" y="4881600"/>
            <a:ext cx="86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39960" y="5313240"/>
            <a:ext cx="86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39960" y="5673600"/>
            <a:ext cx="86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27280" y="3573360"/>
            <a:ext cx="0" cy="2890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48160" y="6491160"/>
            <a:ext cx="797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* Estas desinencias son válidas para LOS </a:t>
            </a: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GÉNEROS MASC. Y FEMENINO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57080" y="387972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A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755640" y="431172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O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5640" y="474336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  -/-I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55640" y="517680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5640" y="560880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3366"/>
                </a:solidFill>
                <a:latin typeface="Arial"/>
                <a:ea typeface="Arial"/>
              </a:rPr>
              <a:t>E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971640" y="2852640"/>
            <a:ext cx="0" cy="936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971280" y="2852640"/>
            <a:ext cx="215640" cy="0"/>
          </a:xfrm>
          <a:prstGeom prst="line">
            <a:avLst/>
          </a:prstGeom>
          <a:ln w="76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979640" y="3645000"/>
            <a:ext cx="21607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631960" y="5956200"/>
            <a:ext cx="1006560" cy="3268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73440" y="5960880"/>
            <a:ext cx="1941840" cy="326880"/>
          </a:xfrm>
          <a:prstGeom prst="rect">
            <a:avLst/>
          </a:prstGeom>
          <a:solidFill>
            <a:srgbClr val="ccffff"/>
          </a:solidFill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ctr">
            <a:spAutoFit/>
          </a:bodyPr>
          <a:p>
            <a:pPr algn="ctr">
              <a:spcBef>
                <a:spcPts val="1250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GEN./P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39960" y="6113520"/>
            <a:ext cx="863640" cy="0"/>
          </a:xfrm>
          <a:prstGeom prst="line">
            <a:avLst/>
          </a:prstGeom>
          <a:ln w="633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04000" y="3068640"/>
            <a:ext cx="2089080" cy="576360"/>
          </a:xfrm>
          <a:prstGeom prst="downArrowCallout">
            <a:avLst>
              <a:gd name="adj1" fmla="val 90623"/>
              <a:gd name="adj2" fmla="val 90615"/>
              <a:gd name="adj3" fmla="val 16667"/>
              <a:gd name="adj4" fmla="val 66667"/>
            </a:avLst>
          </a:pr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TERM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005360"/>
            <a:ext cx="792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451640" y="3789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516720" y="400536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451640" y="4255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A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451640" y="4616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A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51640" y="5479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A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763640" y="4005360"/>
            <a:ext cx="79236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516720" y="443700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16720" y="486900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6720" y="573408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4005360"/>
            <a:ext cx="792360" cy="718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3640" y="4005360"/>
            <a:ext cx="792360" cy="165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524720" y="4616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 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1763640" y="4005000"/>
            <a:ext cx="720720" cy="43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1763640" y="4365720"/>
            <a:ext cx="792360" cy="71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63640" y="4437000"/>
            <a:ext cx="792360" cy="36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63640" y="4437000"/>
            <a:ext cx="792360" cy="1224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451640" y="3789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O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451640" y="4255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451640" y="5479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O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524720" y="4616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 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453440" y="461628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O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51640" y="3789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1763640" y="4005000"/>
            <a:ext cx="720720" cy="136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1763640" y="4365720"/>
            <a:ext cx="720720" cy="1008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1835280" y="5300280"/>
            <a:ext cx="720720" cy="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63640" y="5373720"/>
            <a:ext cx="792360" cy="7192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53440" y="4255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453440" y="5877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53440" y="5013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B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453440" y="3789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501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IB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16720" y="530064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763640" y="3933360"/>
            <a:ext cx="576360" cy="1800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1763640" y="4365360"/>
            <a:ext cx="647640" cy="1368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1763640" y="5157360"/>
            <a:ext cx="720720" cy="576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1763640" y="5660640"/>
            <a:ext cx="792360" cy="7308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53440" y="425592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451640" y="5479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ER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453440" y="3789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24720" y="501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EB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763640" y="4076640"/>
            <a:ext cx="720720" cy="7207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763640" y="4365360"/>
            <a:ext cx="720720" cy="431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763640" y="4797360"/>
            <a:ext cx="792360" cy="43200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63640" y="4797360"/>
            <a:ext cx="792360" cy="1295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53440" y="378936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E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524720" y="425592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596360" y="587700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IU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524720" y="3789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I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24720" y="501336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IB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53440" y="4292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-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516720" y="6093000"/>
            <a:ext cx="79200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244000" y="1052640"/>
            <a:ext cx="720720" cy="720720"/>
          </a:xfrm>
          <a:custGeom>
            <a:avLst/>
            <a:gdLst>
              <a:gd name="textAreaLeft" fmla="*/ 96480 w 720720"/>
              <a:gd name="textAreaRight" fmla="*/ 624240 w 720720"/>
              <a:gd name="textAreaTop" fmla="*/ 126000 h 720720"/>
              <a:gd name="textAreaBottom" fmla="*/ 52344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51" stAng="-5400000" swAng="5400000"/>
                <a:lnTo>
                  <a:pt x="21600" y="11909"/>
                </a:lnTo>
                <a:arcTo wR="21600" hR="7551" stAng="0" swAng="2680476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69"/>
                </a:lnTo>
                <a:arcTo wR="21600" hR="7551" stAng="2680476" swAng="-2319598"/>
                <a:lnTo>
                  <a:pt x="20681" y="9730"/>
                </a:lnTo>
                <a:arcTo wR="21600" hR="7551" stAng="-360878" swAng="-5039122"/>
                <a:close/>
              </a:path>
              <a:path fill="darkenLess" w="21600" h="21600">
                <a:moveTo>
                  <a:pt x="0" y="0"/>
                </a:moveTo>
                <a:arcTo wR="21600" hR="7551" stAng="-5400000" swAng="5400000"/>
                <a:lnTo>
                  <a:pt x="21600" y="11909"/>
                </a:lnTo>
                <a:arcTo wR="21600" hR="7551" stAng="0" swAng="-360878"/>
                <a:lnTo>
                  <a:pt x="20681" y="9730"/>
                </a:lnTo>
                <a:arcTo wR="21600" hR="7551" stAng="-360878" swAng="-5039122"/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175e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195640" y="141300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c9074"/>
                </a:solidFill>
                <a:latin typeface="Verdana"/>
              </a:rPr>
              <a:t>EL “CASO” Y EL “NÚMER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7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8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500"/>
                                        <p:tgtEl>
                                          <p:spTgt spid="2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500"/>
                            </p:stCondLst>
                            <p:childTnLst>
                              <p:par>
                                <p:cTn id="3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50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fill="hold">
                            <p:stCondLst>
                              <p:cond delay="1000"/>
                            </p:stCondLst>
                            <p:childTnLst>
                              <p:par>
                                <p:cTn id="43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500"/>
                            </p:stCondLst>
                            <p:childTnLst>
                              <p:par>
                                <p:cTn id="4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9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10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000"/>
                            </p:stCondLst>
                            <p:childTnLst>
                              <p:par>
                                <p:cTn id="46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500"/>
                            </p:stCondLst>
                            <p:childTnLst>
                              <p:par>
                                <p:cTn id="4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3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"/>
                            </p:stCondLst>
                            <p:childTnLst>
                              <p:par>
                                <p:cTn id="4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1000"/>
                            </p:stCondLst>
                            <p:childTnLst>
                              <p:par>
                                <p:cTn id="50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2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3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4" dur="8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5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6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8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9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7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1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5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5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3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7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9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26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7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0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4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48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2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0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1" dur="5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4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68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5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5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6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0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4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2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28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5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3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4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48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9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2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6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1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4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9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08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2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16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7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0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4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28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9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2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6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40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1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2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3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5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0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2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86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7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2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0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1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2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08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9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1" dur="20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6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7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200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20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2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34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5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2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1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2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2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6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7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20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2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3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20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58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20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4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5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20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1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2000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7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7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2000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2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3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200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88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9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200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200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20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06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7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2000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2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3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20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9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20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4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5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20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2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0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3" dur="20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6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7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2000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3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2000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7" nodeType="withEffect" fill="hold" presetClass="exit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104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9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2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5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2000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0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1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200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7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2000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3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4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5" dur="200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9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200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4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5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200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0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1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2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20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96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7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20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20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08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9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1" dur="20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14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5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6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20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1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20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6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7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20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20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9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200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4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200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0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1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56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200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3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2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6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200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200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0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200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86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7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200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20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8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9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20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4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20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0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20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7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20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3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4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200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8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9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1" dur="200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5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6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7" dur="2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1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3" dur="20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6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7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8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20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3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8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9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4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5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6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7" dur="20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1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2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20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7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20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3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20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88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9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0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20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94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5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2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0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1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2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3" dur="20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0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7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8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20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2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3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4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20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8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9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4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5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200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0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1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3" dur="200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3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37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9" dur="2000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3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4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2000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9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0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1" dur="20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4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5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7" dur="20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0" dur="2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1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20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66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7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20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2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3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8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9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0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1" dur="2000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8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5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7" dur="20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1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2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3" dur="20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9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7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20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2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3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5" dur="2000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7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8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9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0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1" dur="20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3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14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5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6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20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9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1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2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5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26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7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8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20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1" nodeType="with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2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3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5" dur="20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FLEXIÓN NOMINAL</a:t>
            </a:r>
            <a:br>
              <a:rPr sz="32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A “TERMINACIÓN” (II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2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FINICIÓN: Se denomina “terminación de un sustantivo” a todos los elementos añadidos a su “LEXEMA” (o raíz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ECLINAR un sustantivo es relacionar de manera ordenada todas las formas que resultan al ir añadiendo a su LEXEMA cada una de las TERMINACIONES de “caso” y “número” correspondientes a su declina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NUNCIAR un sustantivo es relacionar de manera consecutiva dos de sus formas: el NOMINATIVO y el GENITIVO singular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7" dur="indefinite" restart="never" nodeType="tmRoot">
          <p:childTnLst>
            <p:seq>
              <p:cTn id="1438" dur="indefinite" nodeType="mainSeq">
                <p:childTnLst>
                  <p:par>
                    <p:cTn id="1439" fill="hold">
                      <p:stCondLst>
                        <p:cond delay="indefinite"/>
                      </p:stCondLst>
                      <p:childTnLst>
                        <p:par>
                          <p:cTn id="1440" fill="hold">
                            <p:stCondLst>
                              <p:cond delay="0"/>
                            </p:stCondLst>
                            <p:childTnLst>
                              <p:par>
                                <p:cTn id="14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3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44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5" dur="8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6" fill="hold">
                      <p:stCondLst>
                        <p:cond delay="indefinite"/>
                      </p:stCondLst>
                      <p:childTnLst>
                        <p:par>
                          <p:cTn id="1447" fill="hold">
                            <p:stCondLst>
                              <p:cond delay="0"/>
                            </p:stCondLst>
                            <p:childTnLst>
                              <p:par>
                                <p:cTn id="14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2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0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10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1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2" dur="8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45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66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454" fill="hold">
                      <p:stCondLst>
                        <p:cond delay="indefinite"/>
                      </p:stCondLst>
                      <p:childTnLst>
                        <p:par>
                          <p:cTn id="1455" fill="hold">
                            <p:stCondLst>
                              <p:cond delay="0"/>
                            </p:stCondLst>
                            <p:childTnLst>
                              <p:par>
                                <p:cTn id="1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58" dur="8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9" dur="8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0" dur="8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1" fill="hold">
                      <p:stCondLst>
                        <p:cond delay="indefinite"/>
                      </p:stCondLst>
                      <p:childTnLst>
                        <p:par>
                          <p:cTn id="146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463" dur="1" fill="hold"/>
                                  <p:tgtEl>
                                    <p:spTgt spid="233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834120" y="692640"/>
            <a:ext cx="4889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ENUNCIADO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SUSTANTIVOS (2 FORMAS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00000" y="2349360"/>
            <a:ext cx="237672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NOMINA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852720" y="2349360"/>
            <a:ext cx="2159280" cy="448560"/>
          </a:xfrm>
          <a:prstGeom prst="rect">
            <a:avLst/>
          </a:prstGeom>
          <a:solidFill>
            <a:srgbClr val="ccffff"/>
          </a:solidFill>
          <a:ln w="63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GENITIV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419640" y="2349360"/>
            <a:ext cx="358560" cy="44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405080" y="2854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TUNA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405080" y="321480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R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405080" y="36212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UE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405080" y="4051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LLUM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05080" y="4484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AMOR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405080" y="487044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STI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405080" y="527688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URSU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405080" y="5708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RNU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05080" y="6140520"/>
            <a:ext cx="19429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ES ,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211640" y="2852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FORTUN-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211640" y="3213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211640" y="3619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UER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496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BELL-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211640" y="4483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LAMOR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86900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HOST-I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11640" y="527544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URS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11640" y="570708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RN-U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11640" y="6138720"/>
            <a:ext cx="194472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-E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0000" y="2852640"/>
            <a:ext cx="0" cy="345600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90000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90000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90000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000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000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90000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0000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0000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90000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51280" y="2852640"/>
            <a:ext cx="0" cy="3456000"/>
          </a:xfrm>
          <a:prstGeom prst="line">
            <a:avLst/>
          </a:prstGeom>
          <a:ln w="255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51280" y="306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51280" y="3429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1280" y="378936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1280" y="4221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51280" y="4653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851280" y="5084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51280" y="5445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851280" y="587700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51280" y="6308640"/>
            <a:ext cx="358920" cy="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732720" y="279396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732720" y="36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2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732720" y="472428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3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732720" y="5445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4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32720" y="6093000"/>
            <a:ext cx="2016000" cy="296280"/>
          </a:xfrm>
          <a:prstGeom prst="rect">
            <a:avLst/>
          </a:prstGeom>
          <a:solidFill>
            <a:srgbClr val="ccffcc"/>
          </a:solidFill>
          <a:ln w="507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54000" tIns="10800" bIns="10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5ª DECLINACIÓ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56360" y="2997360"/>
            <a:ext cx="43164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508720" y="3429000"/>
            <a:ext cx="93492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580000" y="3789360"/>
            <a:ext cx="93672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5580000" y="3933720"/>
            <a:ext cx="792360" cy="28728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56360" y="4653000"/>
            <a:ext cx="360360" cy="14436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5724360" y="4941360"/>
            <a:ext cx="79236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796000" y="5373720"/>
            <a:ext cx="792000" cy="14292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5867280" y="5661000"/>
            <a:ext cx="649440" cy="21600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292720" y="6308640"/>
            <a:ext cx="1295280" cy="0"/>
          </a:xfrm>
          <a:prstGeom prst="line">
            <a:avLst/>
          </a:prstGeom>
          <a:ln w="5724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724360" y="1125360"/>
            <a:ext cx="720720" cy="503280"/>
          </a:xfrm>
          <a:custGeom>
            <a:avLst/>
            <a:gdLst>
              <a:gd name="textAreaLeft" fmla="*/ 112320 w 720720"/>
              <a:gd name="textAreaRight" fmla="*/ 630720 w 720720"/>
              <a:gd name="textAreaTop" fmla="*/ 125640 h 503280"/>
              <a:gd name="textAreaBottom" fmla="*/ 377640 h 503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cccc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0" y="549360"/>
            <a:ext cx="2411640" cy="1326240"/>
          </a:xfrm>
          <a:prstGeom prst="rect">
            <a:avLst/>
          </a:prstGeom>
          <a:noFill/>
          <a:ln w="255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CLASIFIC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P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66"/>
                </a:solidFill>
                <a:latin typeface="Arial"/>
              </a:rPr>
              <a:t>DECLINAC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4" dur="indefinite" restart="never" nodeType="tmRoot">
          <p:childTnLst>
            <p:seq>
              <p:cTn id="1465" dur="indefinite" nodeType="mainSeq">
                <p:childTnLst>
                  <p:par>
                    <p:cTn id="1466" fill="hold">
                      <p:stCondLst>
                        <p:cond delay="0"/>
                      </p:stCondLst>
                      <p:childTnLst>
                        <p:par>
                          <p:cTn id="1467" fill="hold">
                            <p:stCondLst>
                              <p:cond delay="0"/>
                            </p:stCondLst>
                            <p:childTnLst>
                              <p:par>
                                <p:cTn id="146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2" fill="hold">
                      <p:stCondLst>
                        <p:cond delay="indefinite"/>
                      </p:stCondLst>
                      <p:childTnLst>
                        <p:par>
                          <p:cTn id="1473" fill="hold">
                            <p:stCondLst>
                              <p:cond delay="0"/>
                            </p:stCondLst>
                            <p:childTnLst>
                              <p:par>
                                <p:cTn id="14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6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7" fill="hold">
                            <p:stCondLst>
                              <p:cond delay="500"/>
                            </p:stCondLst>
                            <p:childTnLst>
                              <p:par>
                                <p:cTn id="14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0" dur="8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1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8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6" fill="hold">
                      <p:stCondLst>
                        <p:cond delay="indefinite"/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2" fill="hold">
                      <p:stCondLst>
                        <p:cond delay="indefinite"/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0" fill="hold">
                      <p:stCondLst>
                        <p:cond delay="indefinite"/>
                      </p:stCondLst>
                      <p:childTnLst>
                        <p:par>
                          <p:cTn id="1501" fill="hold">
                            <p:stCondLst>
                              <p:cond delay="0"/>
                            </p:stCondLst>
                            <p:childTnLst>
                              <p:par>
                                <p:cTn id="150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6" fill="hold">
                      <p:stCondLst>
                        <p:cond delay="indefinite"/>
                      </p:stCondLst>
                      <p:childTnLst>
                        <p:par>
                          <p:cTn id="1507" fill="hold">
                            <p:stCondLst>
                              <p:cond delay="0"/>
                            </p:stCondLst>
                            <p:childTnLst>
                              <p:par>
                                <p:cTn id="15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1" fill="hold">
                            <p:stCondLst>
                              <p:cond delay="500"/>
                            </p:stCondLst>
                            <p:childTnLst>
                              <p:par>
                                <p:cTn id="15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4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3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6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8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9" fill="hold">
                      <p:stCondLst>
                        <p:cond delay="indefinite"/>
                      </p:stCondLst>
                      <p:childTnLst>
                        <p:par>
                          <p:cTn id="1540" fill="hold">
                            <p:stCondLst>
                              <p:cond delay="0"/>
                            </p:stCondLst>
                            <p:childTnLst>
                              <p:par>
                                <p:cTn id="15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43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44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6" fill="hold">
                      <p:stCondLst>
                        <p:cond delay="indefinite"/>
                      </p:stCondLst>
                      <p:childTnLst>
                        <p:par>
                          <p:cTn id="1547" fill="hold">
                            <p:stCondLst>
                              <p:cond delay="0"/>
                            </p:stCondLst>
                            <p:childTnLst>
                              <p:par>
                                <p:cTn id="15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0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1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2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3" fill="hold">
                      <p:stCondLst>
                        <p:cond delay="indefinite"/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5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58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9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0" fill="hold">
                      <p:stCondLst>
                        <p:cond delay="indefinite"/>
                      </p:stCondLst>
                      <p:childTnLst>
                        <p:par>
                          <p:cTn id="1561" fill="hold">
                            <p:stCondLst>
                              <p:cond delay="0"/>
                            </p:stCondLst>
                            <p:childTnLst>
                              <p:par>
                                <p:cTn id="15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6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6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7" fill="hold">
                      <p:stCondLst>
                        <p:cond delay="indefinite"/>
                      </p:stCondLst>
                      <p:childTnLst>
                        <p:par>
                          <p:cTn id="1568" fill="hold">
                            <p:stCondLst>
                              <p:cond delay="0"/>
                            </p:stCondLst>
                            <p:childTnLst>
                              <p:par>
                                <p:cTn id="15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1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73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4" fill="hold">
                      <p:stCondLst>
                        <p:cond delay="indefinite"/>
                      </p:stCondLst>
                      <p:childTnLst>
                        <p:par>
                          <p:cTn id="1575" fill="hold">
                            <p:stCondLst>
                              <p:cond delay="0"/>
                            </p:stCondLst>
                            <p:childTnLst>
                              <p:par>
                                <p:cTn id="15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78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9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0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1" fill="hold">
                      <p:stCondLst>
                        <p:cond delay="indefinite"/>
                      </p:stCondLst>
                      <p:childTnLst>
                        <p:par>
                          <p:cTn id="1582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5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86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7" dur="80"/>
                                        <p:tgtEl>
                                          <p:spTgt spid="2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8" fill="hold">
                      <p:stCondLst>
                        <p:cond delay="indefinite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2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3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4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5" fill="hold">
                      <p:stCondLst>
                        <p:cond delay="indefinite"/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99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00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1" dur="8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2" fill="hold">
                      <p:stCondLst>
                        <p:cond delay="indefinite"/>
                      </p:stCondLst>
                      <p:childTnLst>
                        <p:par>
                          <p:cTn id="1603" fill="hold">
                            <p:stCondLst>
                              <p:cond delay="0"/>
                            </p:stCondLst>
                            <p:childTnLst>
                              <p:par>
                                <p:cTn id="16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6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7" fill="hold">
                            <p:stCondLst>
                              <p:cond delay="500"/>
                            </p:stCondLst>
                            <p:childTnLst>
                              <p:par>
                                <p:cTn id="16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3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6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2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fill="hold">
                      <p:stCondLst>
                        <p:cond delay="indefinite"/>
                      </p:stCondLst>
                      <p:childTnLst>
                        <p:par>
                          <p:cTn id="1636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39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0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fill="hold">
                      <p:stCondLst>
                        <p:cond delay="indefinite"/>
                      </p:stCondLst>
                      <p:childTnLst>
                        <p:par>
                          <p:cTn id="1643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6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47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8" dur="8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fill="hold">
                      <p:stCondLst>
                        <p:cond delay="indefinite"/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3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4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55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fill="hold">
                      <p:stCondLst>
                        <p:cond delay="indefinite"/>
                      </p:stCondLst>
                      <p:childTnLst>
                        <p:par>
                          <p:cTn id="1657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0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1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2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3" fill="hold">
                      <p:stCondLst>
                        <p:cond delay="indefinite"/>
                      </p:stCondLst>
                      <p:childTnLst>
                        <p:par>
                          <p:cTn id="1664" fill="hold">
                            <p:stCondLst>
                              <p:cond delay="0"/>
                            </p:stCondLst>
                            <p:childTnLst>
                              <p:par>
                                <p:cTn id="16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7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8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9" dur="8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0" fill="hold">
                      <p:stCondLst>
                        <p:cond delay="indefinite"/>
                      </p:stCondLst>
                      <p:childTnLst>
                        <p:par>
                          <p:cTn id="1671" fill="hold">
                            <p:stCondLst>
                              <p:cond delay="0"/>
                            </p:stCondLst>
                            <p:childTnLst>
                              <p:par>
                                <p:cTn id="1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7" fill="hold">
                      <p:stCondLst>
                        <p:cond delay="indefinite"/>
                      </p:stCondLst>
                      <p:childTnLst>
                        <p:par>
                          <p:cTn id="1678" fill="hold">
                            <p:stCondLst>
                              <p:cond delay="0"/>
                            </p:stCondLst>
                            <p:childTnLst>
                              <p:par>
                                <p:cTn id="16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1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2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3" dur="8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4" fill="hold">
                      <p:stCondLst>
                        <p:cond delay="indefinite"/>
                      </p:stCondLst>
                      <p:childTnLst>
                        <p:par>
                          <p:cTn id="1685" fill="hold">
                            <p:stCondLst>
                              <p:cond delay="0"/>
                            </p:stCondLst>
                            <p:childTnLst>
                              <p:par>
                                <p:cTn id="1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88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9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0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1" fill="hold">
                      <p:stCondLst>
                        <p:cond delay="indefinite"/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95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96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7" dur="8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8" fill="hold">
                      <p:stCondLst>
                        <p:cond delay="indefinite"/>
                      </p:stCondLst>
                      <p:childTnLst>
                        <p:par>
                          <p:cTn id="1699" fill="hold">
                            <p:stCondLst>
                              <p:cond delay="0"/>
                            </p:stCondLst>
                            <p:childTnLst>
                              <p:par>
                                <p:cTn id="17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2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3" fill="hold">
                            <p:stCondLst>
                              <p:cond delay="500"/>
                            </p:stCondLst>
                            <p:childTnLst>
                              <p:par>
                                <p:cTn id="17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6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2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0" fill="hold">
                      <p:stCondLst>
                        <p:cond delay="indefinite"/>
                      </p:stCondLst>
                      <p:childTnLst>
                        <p:par>
                          <p:cTn id="1711" fill="hold">
                            <p:stCondLst>
                              <p:cond delay="0"/>
                            </p:stCondLst>
                            <p:childTnLst>
                              <p:par>
                                <p:cTn id="17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7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4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5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7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8" fill="hold">
                      <p:stCondLst>
                        <p:cond delay="indefinite"/>
                      </p:stCondLst>
                      <p:childTnLst>
                        <p:par>
                          <p:cTn id="1729" fill="hold">
                            <p:stCondLst>
                              <p:cond delay="0"/>
                            </p:stCondLst>
                            <p:childTnLst>
                              <p:par>
                                <p:cTn id="17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6" fill="hold">
                            <p:stCondLst>
                              <p:cond delay="500"/>
                            </p:stCondLst>
                            <p:childTnLst>
                              <p:par>
                                <p:cTn id="173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0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3" fill="hold">
                      <p:stCondLst>
                        <p:cond delay="indefinite"/>
                      </p:stCondLst>
                      <p:childTnLst>
                        <p:par>
                          <p:cTn id="1744" fill="hold">
                            <p:stCondLst>
                              <p:cond delay="0"/>
                            </p:stCondLst>
                            <p:childTnLst>
                              <p:par>
                                <p:cTn id="17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7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1" fill="hold">
                            <p:stCondLst>
                              <p:cond delay="500"/>
                            </p:stCondLst>
                            <p:childTnLst>
                              <p:par>
                                <p:cTn id="175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4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5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fill="hold">
                      <p:stCondLst>
                        <p:cond delay="indefinite"/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3" fill="hold">
                            <p:stCondLst>
                              <p:cond delay="500"/>
                            </p:stCondLst>
                            <p:childTnLst>
                              <p:par>
                                <p:cTn id="176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6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7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MORFOLOGÍA NOMINAL</a:t>
            </a:r>
            <a:br>
              <a:rPr sz="3200"/>
            </a:b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¿Cómo se declina un sustantivo? (paso 1º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Lo primero que hemos de hacer para declinar un sustantivo es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determinar a qué declinación pertenece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900000" y="2349360"/>
            <a:ext cx="7693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042920" y="4292640"/>
            <a:ext cx="7772400" cy="1977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Arial Black"/>
              </a:rPr>
              <a:t>Primera declinación: genitivo </a:t>
            </a:r>
            <a:r>
              <a:rPr b="0" lang="es-ES_tradnl" sz="2000" spc="-1" strike="noStrike">
                <a:solidFill>
                  <a:srgbClr val="006600"/>
                </a:solidFill>
                <a:latin typeface="Arial Black"/>
              </a:rPr>
              <a:t>–a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Arial Black"/>
              </a:rPr>
              <a:t>Segunda declinación: genitivo </a:t>
            </a:r>
            <a:r>
              <a:rPr b="0" lang="es-ES_tradnl" sz="2000" spc="-1" strike="noStrike">
                <a:solidFill>
                  <a:srgbClr val="006600"/>
                </a:solidFill>
                <a:latin typeface="Arial Black"/>
              </a:rPr>
              <a:t>–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Arial Black"/>
              </a:rPr>
              <a:t>Tercera declinación: genitivo </a:t>
            </a:r>
            <a:r>
              <a:rPr b="0" lang="es-ES_tradnl" sz="2000" spc="-1" strike="noStrike">
                <a:solidFill>
                  <a:srgbClr val="006600"/>
                </a:solidFill>
                <a:latin typeface="Arial Black"/>
              </a:rPr>
              <a:t>–i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Arial Black"/>
              </a:rPr>
              <a:t>Cuarta declinación: genitivo </a:t>
            </a:r>
            <a:r>
              <a:rPr b="0" lang="es-ES_tradnl" sz="2000" spc="-1" strike="noStrike">
                <a:solidFill>
                  <a:srgbClr val="006600"/>
                </a:solidFill>
                <a:latin typeface="Arial Black"/>
              </a:rPr>
              <a:t>–u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40458c"/>
                </a:solidFill>
                <a:latin typeface="Arial Black"/>
              </a:rPr>
              <a:t>Quinta declinación: genitivo </a:t>
            </a:r>
            <a:r>
              <a:rPr b="0" lang="es-ES_tradnl" sz="2000" spc="-1" strike="noStrike">
                <a:solidFill>
                  <a:srgbClr val="006600"/>
                </a:solidFill>
                <a:latin typeface="Arial Black"/>
              </a:rPr>
              <a:t>-ei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187280" y="3213000"/>
            <a:ext cx="749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Para ello basta con mirar la terminación del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genitivo 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–segunda forma del enunciado-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0" dur="indefinite" restart="never" nodeType="tmRoot">
          <p:childTnLst>
            <p:seq>
              <p:cTn id="1771" dur="indefinite" nodeType="mainSeq">
                <p:childTnLst>
                  <p:par>
                    <p:cTn id="1772" fill="hold">
                      <p:stCondLst>
                        <p:cond delay="0"/>
                      </p:stCondLst>
                      <p:childTnLst>
                        <p:par>
                          <p:cTn id="1773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fill="hold">
                      <p:stCondLst>
                        <p:cond delay="indefinite"/>
                      </p:stCondLst>
                      <p:childTnLst>
                        <p:par>
                          <p:cTn id="1779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2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83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4" dur="8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5" fill="hold">
                      <p:stCondLst>
                        <p:cond delay="indefinite"/>
                      </p:stCondLst>
                      <p:childTnLst>
                        <p:par>
                          <p:cTn id="1786" fill="hold">
                            <p:stCondLst>
                              <p:cond delay="0"/>
                            </p:stCondLst>
                            <p:childTnLst>
                              <p:par>
                                <p:cTn id="17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8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9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2" fill="hold">
                      <p:stCondLst>
                        <p:cond delay="indefinite"/>
                      </p:stCondLst>
                      <p:childTnLst>
                        <p:par>
                          <p:cTn id="1793" fill="hold">
                            <p:stCondLst>
                              <p:cond delay="0"/>
                            </p:stCondLst>
                            <p:childTnLst>
                              <p:par>
                                <p:cTn id="17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6" dur="5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7" fill="hold">
                      <p:stCondLst>
                        <p:cond delay="indefinite"/>
                      </p:stCondLst>
                      <p:childTnLst>
                        <p:par>
                          <p:cTn id="1798" fill="hold">
                            <p:stCondLst>
                              <p:cond delay="0"/>
                            </p:stCondLst>
                            <p:childTnLst>
                              <p:par>
                                <p:cTn id="17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1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2" fill="hold">
                      <p:stCondLst>
                        <p:cond delay="indefinite"/>
                      </p:stCondLst>
                      <p:childTnLst>
                        <p:par>
                          <p:cTn id="1803" fill="hold">
                            <p:stCondLst>
                              <p:cond delay="0"/>
                            </p:stCondLst>
                            <p:childTnLst>
                              <p:par>
                                <p:cTn id="1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6" dur="5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7" fill="hold">
                      <p:stCondLst>
                        <p:cond delay="indefinite"/>
                      </p:stCondLst>
                      <p:childTnLst>
                        <p:par>
                          <p:cTn id="1808" fill="hold">
                            <p:stCondLst>
                              <p:cond delay="0"/>
                            </p:stCondLst>
                            <p:childTnLst>
                              <p:par>
                                <p:cTn id="18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1" dur="5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2" fill="hold">
                      <p:stCondLst>
                        <p:cond delay="indefinite"/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6" dur="5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12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Una vez determinada la declinación,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extraemos la raíz (lexema) del sustantivo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, que es donde vamos a añadir las desinencias casuales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(morfemas)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3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MORFOLOGÍA NOMINAL</a:t>
            </a:r>
            <a:br>
              <a:rPr sz="3200"/>
            </a:b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¿Cómo se declina un sustantivo? (paso 2º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87280" y="3500280"/>
            <a:ext cx="74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La raíz del sustantivo es lo que nos queda al quitarle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la terminación al genitivo</a:t>
            </a:r>
            <a:r>
              <a:rPr b="1" lang="es-ES_tradnl" sz="2400" spc="-1" strike="noStrike">
                <a:solidFill>
                  <a:srgbClr val="40458c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42920" y="4508640"/>
            <a:ext cx="7772400" cy="1726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Garamond"/>
              </a:rPr>
              <a:t>Sustantivo: </a:t>
            </a:r>
            <a:r>
              <a:rPr b="1" lang="es-ES_tradnl" sz="2800" spc="-1" strike="noStrike">
                <a:solidFill>
                  <a:srgbClr val="ff3300"/>
                </a:solidFill>
                <a:latin typeface="AGaramond"/>
              </a:rPr>
              <a:t>dominus, domin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Garamond"/>
              </a:rPr>
              <a:t>Declinación: segunda (genitivo </a:t>
            </a:r>
            <a:r>
              <a:rPr b="1" lang="es-ES_tradnl" sz="2800" spc="-1" strike="noStrike">
                <a:solidFill>
                  <a:srgbClr val="006600"/>
                </a:solidFill>
                <a:latin typeface="AGaramond"/>
              </a:rPr>
              <a:t>–i</a:t>
            </a:r>
            <a:r>
              <a:rPr b="1" lang="es-ES_tradnl" sz="2800" spc="-1" strike="noStrike">
                <a:solidFill>
                  <a:srgbClr val="40458c"/>
                </a:solidFill>
                <a:latin typeface="AGaramond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0458c"/>
                </a:solidFill>
                <a:latin typeface="AGaramond"/>
              </a:rPr>
              <a:t>Raíz: </a:t>
            </a:r>
            <a:r>
              <a:rPr b="1" lang="es-ES_tradnl" sz="2800" spc="-1" strike="noStrike">
                <a:solidFill>
                  <a:srgbClr val="006600"/>
                </a:solidFill>
                <a:latin typeface="AGaramond"/>
              </a:rPr>
              <a:t>domin-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7" dur="indefinite" restart="never" nodeType="tmRoot">
          <p:childTnLst>
            <p:seq>
              <p:cTn id="1818" dur="indefinite" nodeType="mainSeq">
                <p:childTnLst>
                  <p:par>
                    <p:cTn id="1819" fill="hold">
                      <p:stCondLst>
                        <p:cond delay="0"/>
                      </p:stCondLst>
                      <p:childTnLst>
                        <p:par>
                          <p:cTn id="1820" fill="hold">
                            <p:stCondLst>
                              <p:cond delay="0"/>
                            </p:stCondLst>
                            <p:childTnLst>
                              <p:par>
                                <p:cTn id="18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3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5" fill="hold">
                      <p:stCondLst>
                        <p:cond delay="indefinite"/>
                      </p:stCondLst>
                      <p:childTnLst>
                        <p:par>
                          <p:cTn id="1826" fill="hold">
                            <p:stCondLst>
                              <p:cond delay="0"/>
                            </p:stCondLst>
                            <p:childTnLst>
                              <p:par>
                                <p:cTn id="18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9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0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1" dur="8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2" fill="hold">
                      <p:stCondLst>
                        <p:cond delay="indefinite"/>
                      </p:stCondLst>
                      <p:childTnLst>
                        <p:par>
                          <p:cTn id="1833" fill="hold">
                            <p:stCondLst>
                              <p:cond delay="0"/>
                            </p:stCondLst>
                            <p:childTnLst>
                              <p:par>
                                <p:cTn id="18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6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7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8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9" fill="hold">
                      <p:stCondLst>
                        <p:cond delay="indefinite"/>
                      </p:stCondLst>
                      <p:childTnLst>
                        <p:par>
                          <p:cTn id="1840" fill="hold">
                            <p:stCondLst>
                              <p:cond delay="0"/>
                            </p:stCondLst>
                            <p:childTnLst>
                              <p:par>
                                <p:cTn id="18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3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4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5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6" dur="1000" fill="hold"/>
                                        <p:tgtEl>
                                          <p:spTgt spid="3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7" fill="hold">
                      <p:stCondLst>
                        <p:cond delay="indefinite"/>
                      </p:stCondLst>
                      <p:childTnLst>
                        <p:par>
                          <p:cTn id="1848" fill="hold">
                            <p:stCondLst>
                              <p:cond delay="0"/>
                            </p:stCondLst>
                            <p:childTnLst>
                              <p:par>
                                <p:cTn id="18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1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2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3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4" dur="1000" fill="hold"/>
                                        <p:tgtEl>
                                          <p:spTgt spid="3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5" fill="hold">
                      <p:stCondLst>
                        <p:cond delay="indefinite"/>
                      </p:stCondLst>
                      <p:childTnLst>
                        <p:par>
                          <p:cTn id="1856" fill="hold">
                            <p:stCondLst>
                              <p:cond delay="0"/>
                            </p:stCondLst>
                            <p:childTnLst>
                              <p:par>
                                <p:cTn id="185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9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0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1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2" dur="1000" fill="hold"/>
                                        <p:tgtEl>
                                          <p:spTgt spid="3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9966"/>
                </a:solidFill>
                <a:latin typeface="Arial"/>
              </a:rPr>
              <a:t>MORFOLOGÍA NOMINAL</a:t>
            </a:r>
            <a:br>
              <a:rPr sz="3200"/>
            </a:b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¿Cómo se declina un sustantivo? (paso 3º)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539640" y="2276280"/>
            <a:ext cx="830592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    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Ahora sólo tenemos que ir añadiendo a la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raíz (lexema)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 las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terminaciones</a:t>
            </a:r>
            <a:r>
              <a:rPr b="1" lang="es-ES_tradnl" sz="2400" spc="-1" strike="noStrike">
                <a:solidFill>
                  <a:srgbClr val="660066"/>
                </a:solidFill>
                <a:latin typeface="Times New Roman"/>
              </a:rPr>
              <a:t> de cada uno de los casos, en función de la declinación a la que el sustantivo pertenec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708360" y="3573360"/>
            <a:ext cx="43200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6300720" y="3573000"/>
            <a:ext cx="360360" cy="180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6732720" y="3429000"/>
          <a:ext cx="2184120" cy="3095640"/>
        </p:xfrm>
        <a:graphic>
          <a:graphicData uri="http://schemas.openxmlformats.org/drawingml/2006/table">
            <a:tbl>
              <a:tblPr/>
              <a:tblGrid>
                <a:gridCol w="647640"/>
                <a:gridCol w="936720"/>
                <a:gridCol w="599760"/>
              </a:tblGrid>
              <a:tr h="441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RMINACION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U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OR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1258920" y="3881520"/>
          <a:ext cx="5327640" cy="2643120"/>
        </p:xfrm>
        <a:graphic>
          <a:graphicData uri="http://schemas.openxmlformats.org/drawingml/2006/table">
            <a:tbl>
              <a:tblPr/>
              <a:tblGrid>
                <a:gridCol w="2663640"/>
                <a:gridCol w="2664000"/>
              </a:tblGrid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U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O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OR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OMIN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307" name=""/>
          <p:cNvSpPr/>
          <p:nvPr/>
        </p:nvSpPr>
        <p:spPr>
          <a:xfrm>
            <a:off x="1187280" y="328464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Garamond"/>
              </a:rPr>
              <a:t>AULA, AUL</a:t>
            </a:r>
            <a:r>
              <a:rPr b="1" lang="es-ES_tradnl" sz="2800" spc="-1" strike="noStrike">
                <a:solidFill>
                  <a:srgbClr val="ff3300"/>
                </a:solidFill>
                <a:latin typeface="AGaramond"/>
              </a:rPr>
              <a:t>-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916360" y="3309840"/>
            <a:ext cx="50328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000" rIns="18000" tIns="0" bIns="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AGaramond"/>
              </a:rPr>
              <a:t>A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427640" y="3355920"/>
            <a:ext cx="1657080" cy="43344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1ª DECL.(f.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56360" y="3573360"/>
            <a:ext cx="504720" cy="0"/>
          </a:xfrm>
          <a:prstGeom prst="line">
            <a:avLst/>
          </a:prstGeom>
          <a:ln w="63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6732720" y="3429000"/>
          <a:ext cx="2184120" cy="3095640"/>
        </p:xfrm>
        <a:graphic>
          <a:graphicData uri="http://schemas.openxmlformats.org/drawingml/2006/table">
            <a:tbl>
              <a:tblPr/>
              <a:tblGrid>
                <a:gridCol w="647640"/>
                <a:gridCol w="936720"/>
                <a:gridCol w="599760"/>
              </a:tblGrid>
              <a:tr h="4417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ERMINACIONE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N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V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c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AR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.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e3ff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b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9ffcc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1258920" y="3881520"/>
          <a:ext cx="5327640" cy="2643120"/>
        </p:xfrm>
        <a:graphic>
          <a:graphicData uri="http://schemas.openxmlformats.org/drawingml/2006/table">
            <a:tbl>
              <a:tblPr/>
              <a:tblGrid>
                <a:gridCol w="2663640"/>
                <a:gridCol w="2664000"/>
              </a:tblGrid>
              <a:tr h="44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RUM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A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AUL</a:t>
                      </a:r>
                      <a:r>
                        <a:rPr b="1" lang="en-US" sz="1800" spc="-1" strike="noStrike">
                          <a:solidFill>
                            <a:srgbClr val="0066ff"/>
                          </a:solidFill>
                          <a:latin typeface="Arial"/>
                        </a:rPr>
                        <a:t>-IS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3" dur="indefinite" restart="never" nodeType="tmRoot">
          <p:childTnLst>
            <p:seq>
              <p:cTn id="1864" dur="indefinite" nodeType="mainSeq">
                <p:childTnLst>
                  <p:par>
                    <p:cTn id="1865" fill="hold">
                      <p:stCondLst>
                        <p:cond delay="0"/>
                      </p:stCondLst>
                      <p:childTnLst>
                        <p:par>
                          <p:cTn id="1866" fill="hold">
                            <p:stCondLst>
                              <p:cond delay="0"/>
                            </p:stCondLst>
                            <p:childTnLst>
                              <p:par>
                                <p:cTn id="186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0" fill="hold">
                      <p:stCondLst>
                        <p:cond delay="indefinite"/>
                      </p:stCondLst>
                      <p:childTnLst>
                        <p:par>
                          <p:cTn id="1871" fill="hold">
                            <p:stCondLst>
                              <p:cond delay="0"/>
                            </p:stCondLst>
                            <p:childTnLst>
                              <p:par>
                                <p:cTn id="18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74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5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76" dur="80"/>
                                        <p:tgtEl>
                                          <p:spTgt spid="3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7" fill="hold">
                      <p:stCondLst>
                        <p:cond delay="indefinite"/>
                      </p:stCondLst>
                      <p:childTnLst>
                        <p:par>
                          <p:cTn id="1878" fill="hold">
                            <p:stCondLst>
                              <p:cond delay="0"/>
                            </p:stCondLst>
                            <p:childTnLst>
                              <p:par>
                                <p:cTn id="18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1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2" fill="hold">
                      <p:stCondLst>
                        <p:cond delay="indefinite"/>
                      </p:stCondLst>
                      <p:childTnLst>
                        <p:par>
                          <p:cTn id="1883" fill="hold">
                            <p:stCondLst>
                              <p:cond delay="0"/>
                            </p:stCondLst>
                            <p:childTnLst>
                              <p:par>
                                <p:cTn id="18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7" fill="hold">
                      <p:stCondLst>
                        <p:cond delay="indefinite"/>
                      </p:stCondLst>
                      <p:childTnLst>
                        <p:par>
                          <p:cTn id="1888" fill="hold">
                            <p:stCondLst>
                              <p:cond delay="0"/>
                            </p:stCondLst>
                            <p:childTnLst>
                              <p:par>
                                <p:cTn id="18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1" dur="8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2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3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4" dur="8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7" fill="hold">
                      <p:stCondLst>
                        <p:cond delay="indefinite"/>
                      </p:stCondLst>
                      <p:childTnLst>
                        <p:par>
                          <p:cTn id="1898" fill="hold">
                            <p:stCondLst>
                              <p:cond delay="0"/>
                            </p:stCondLst>
                            <p:childTnLst>
                              <p:par>
                                <p:cTn id="18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1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8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9" fill="hold">
                            <p:stCondLst>
                              <p:cond delay="1500"/>
                            </p:stCondLst>
                            <p:childTnLst>
                              <p:par>
                                <p:cTn id="1910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9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19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1" fill="hold">
                            <p:stCondLst>
                              <p:cond delay="3000"/>
                            </p:stCondLst>
                            <p:childTnLst>
                              <p:par>
                                <p:cTn id="19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30.4"/>
                                  </p:iterate>
                                  <p:childTnLst>
                                    <p:set>
                                      <p:cBhvr>
                                        <p:cTn id="1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24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25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26" dur="8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7" fill="hold">
                            <p:stCondLst>
                              <p:cond delay="4384"/>
                            </p:stCondLst>
                            <p:childTnLst>
                              <p:par>
                                <p:cTn id="19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29" dur="1000"/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1" fill="hold">
                            <p:stCondLst>
                              <p:cond delay="4384"/>
                            </p:stCondLst>
                            <p:childTnLst>
                              <p:par>
                                <p:cTn id="19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4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5" fill="hold">
                      <p:stCondLst>
                        <p:cond delay="indefinite"/>
                      </p:stCondLst>
                      <p:childTnLst>
                        <p:par>
                          <p:cTn id="1936" fill="hold">
                            <p:stCondLst>
                              <p:cond delay="0"/>
                            </p:stCondLst>
                            <p:childTnLst>
                              <p:par>
                                <p:cTn id="193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38" dur="2000">
                                          <p:stCondLst>
                                            <p:cond delay="200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39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0" fill="hold">
                            <p:stCondLst>
                              <p:cond delay="0"/>
                            </p:stCondLst>
                            <p:childTnLst>
                              <p:par>
                                <p:cTn id="1941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3" dur="8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4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5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6" dur="8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9" fill="hold">
                      <p:stCondLst>
                        <p:cond delay="indefinite"/>
                      </p:stCondLst>
                      <p:childTnLst>
                        <p:par>
                          <p:cTn id="1950" fill="hold">
                            <p:stCondLst>
                              <p:cond delay="0"/>
                            </p:stCondLst>
                            <p:childTnLst>
                              <p:par>
                                <p:cTn id="1951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out">
                                      <p:cBhvr additive="repl">
                                        <p:cTn id="1952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2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4" dur="178">
                                          <p:stCondLst>
                                            <p:cond delay="182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026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052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078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103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151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196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236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270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297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317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32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3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111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106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9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65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3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37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35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3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22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1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2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3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4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50000">
                                          <p:val>
                                            <p:strVal val="#ppt_y-0.0123"/>
                                          </p:val>
                                        </p:tav>
                                        <p:tav tm="60000">
                                          <p:val>
                                            <p:strVal val="#ppt_y-0.012"/>
                                          </p:val>
                                        </p:tav>
                                        <p:tav tm="70000">
                                          <p:val>
                                            <p:strVal val="#ppt_y-0.010"/>
                                          </p:val>
                                        </p:tav>
                                        <p:tav tm="80000">
                                          <p:val>
                                            <p:strVal val="#ppt_y-0.007"/>
                                          </p:val>
                                        </p:tav>
                                        <p:tav tm="90000">
                                          <p:val>
                                            <p:strVal val="#ppt_y-0.00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9" dur="180">
                                          <p:stCondLst>
                                            <p:cond delay="182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60" dur="26" fill="hold">
                                          <p:stCondLst>
                                            <p:cond delay="62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1" dur="166" fill="hold">
                                          <p:stCondLst>
                                            <p:cond delay="646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6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96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6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96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</p:cBhvr>
                                      <p:to x="100000" y="100000"/>
                                    </p:animScale>
                                    <p:set>
                                      <p:cBhvr>
                                        <p:cTn id="19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9" fill="hold">
                            <p:stCondLst>
                              <p:cond delay="0"/>
                            </p:stCondLst>
                            <p:childTnLst>
                              <p:par>
                                <p:cTn id="197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2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3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4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5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5T09:01:49Z</dcterms:created>
  <dc:creator>Jaime Morente Heredia</dc:creator>
  <dc:description/>
  <dc:language>en-US</dc:language>
  <cp:lastModifiedBy>Alumno</cp:lastModifiedBy>
  <dcterms:modified xsi:type="dcterms:W3CDTF">2007-02-19T11:30:26Z</dcterms:modified>
  <cp:revision>38</cp:revision>
  <dc:subject/>
  <dc:title>MORFOSINTAXIS</dc:title>
</cp:coreProperties>
</file>